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84864"/>
        <c:axId val="25101938"/>
      </c:barChart>
      <c:catAx>
        <c:axId val="65848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101938"/>
        <c:crosses val="autoZero"/>
        <c:auto val="1"/>
        <c:lblAlgn val="ctr"/>
        <c:lblOffset val="100"/>
        <c:noMultiLvlLbl val="0"/>
      </c:catAx>
      <c:valAx>
        <c:axId val="251019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848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CF0A-21BD-48F7-8905-3DD368894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9DCE-0421-49A4-BD5E-2A25E041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1891-227C-4B03-BB1F-25054F136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F5B3-0884-46FB-9C0C-FFE4C52FD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F564-BFA1-489C-A517-17424D71B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4F08-AD2C-4133-9FAB-1AFAB0831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5F43-91BD-425D-8C36-6841147AA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D580-D8F2-4118-A2A8-A8ED9C9CA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AAE9-1445-46B9-B427-7E69DE9A6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BB17-096C-4963-97FD-A8BC3E7E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33FD-7139-4001-8233-8F0AB8D6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1112-6529-492E-985F-95627162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03D0B0-EE6B-40E7-8B07-F9BFFE1E66D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