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821"/>
        <c:axId val="87016805"/>
      </c:barChart>
      <c:catAx>
        <c:axId val="590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16805"/>
        <c:crosses val="autoZero"/>
        <c:auto val="1"/>
        <c:lblAlgn val="ctr"/>
        <c:lblOffset val="100"/>
        <c:noMultiLvlLbl val="0"/>
      </c:catAx>
      <c:valAx>
        <c:axId val="87016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ED6-2DE2-4BFB-910E-D1CAAC6E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E57-AA13-4A3E-8612-3C81FC0A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2B7-8669-4F4F-B615-F3F432BA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39D-7676-467E-AC9C-96030B85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45E-1C5C-4D3E-A986-C9AE5C63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882-7787-464C-B454-F60C7C61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CD9-6FA5-4E7F-89A0-8B80FC63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CB1-70FF-4CD9-8828-20D6C978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EDD-6B80-49C0-BE6A-EBC1D64B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0FB-DF67-43F5-A92D-8AB16663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D53-3D53-45D0-9D0B-A6E9D919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283-C32D-42DE-9BE0-1E4A06AE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58169-ABB7-41C9-83B4-362C9BEE44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