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77265"/>
        <c:axId val="15107121"/>
      </c:barChart>
      <c:catAx>
        <c:axId val="62277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07121"/>
        <c:crosses val="autoZero"/>
        <c:auto val="1"/>
        <c:lblAlgn val="ctr"/>
        <c:lblOffset val="100"/>
        <c:noMultiLvlLbl val="0"/>
      </c:catAx>
      <c:valAx>
        <c:axId val="15107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77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74F-8AB9-4867-87F7-8B6E9AB1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C32-8C15-4859-ABB3-7F3D192C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37F-E58F-480B-84CE-0076693F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997-1FAF-4880-8A5F-A271F662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6EA-2AC4-4158-BE0E-49426041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0648-8CCF-40EE-A98C-1C73479A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BF1-3A6B-499B-885B-4D85B785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90D-B66D-4DE8-98D7-0281295D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451-94FB-4070-A250-20710DF6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4E3-9D4F-473F-A7E3-FE57C53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9B6-A40F-4E89-B1FD-CABA0E67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A3D-03F4-4AD0-B285-36A0473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1AA52-7689-4E7C-A53A-507A51DF21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