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55162"/>
        <c:axId val="99478186"/>
      </c:barChart>
      <c:catAx>
        <c:axId val="530551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78186"/>
        <c:crosses val="autoZero"/>
        <c:auto val="1"/>
        <c:lblAlgn val="ctr"/>
        <c:lblOffset val="100"/>
        <c:noMultiLvlLbl val="0"/>
      </c:catAx>
      <c:valAx>
        <c:axId val="99478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551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029-2C7F-409D-9EA6-B99497A8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D39-B0BF-41AF-BDD7-20B2903B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BE3-909B-4ECF-887B-C626497F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FDA-BAF2-491D-A3CD-3C8DE887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ED3-CE16-48CA-B396-ECE38339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D6D-7A8E-46E3-A4D2-8AD0AD0F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3AB-4B55-402D-9801-9B634B57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551-6C1D-4E93-9E41-50382685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47A-28BF-426D-BC4B-EFFF6546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3E6-BAAD-452B-AEE5-7C4DFA3A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554-1A50-421B-AD44-86609FC2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B44-B238-42EB-B758-E5A7BDD4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0EE10-E463-4581-962C-66B3E5D610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