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03397"/>
        <c:axId val="35920122"/>
      </c:barChart>
      <c:catAx>
        <c:axId val="45203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20122"/>
        <c:crosses val="autoZero"/>
        <c:auto val="1"/>
        <c:lblAlgn val="ctr"/>
        <c:lblOffset val="100"/>
        <c:noMultiLvlLbl val="0"/>
      </c:catAx>
      <c:valAx>
        <c:axId val="35920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03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86A-1380-4CB2-8F9F-01A6AEA0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9DD-CDDE-4CAA-AF92-98A92E80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F1E-FCA3-4BEE-8060-790C4733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BA0-A8B0-473A-90B2-86ABE44E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C1D-CE5F-4386-A7B2-759C56DA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144-5CD5-4FB0-ACC2-B54831AE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CFF-6EA6-4C75-BAA4-678F316A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983-8081-4872-AC1D-03EA101F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537-6DD7-4F8A-9F45-2C9F3E2B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728-229B-4349-BF8F-1E7E5F29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19F-02C9-480F-9481-E864F2B5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B6A-BA63-4C09-B3F8-727F51DB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F0B71-3AD8-4299-A77F-278E962A1F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