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68912"/>
        <c:axId val="35850400"/>
      </c:barChart>
      <c:catAx>
        <c:axId val="61668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0400"/>
        <c:crosses val="autoZero"/>
        <c:auto val="1"/>
        <c:lblAlgn val="ctr"/>
        <c:lblOffset val="100"/>
        <c:noMultiLvlLbl val="0"/>
      </c:catAx>
      <c:valAx>
        <c:axId val="35850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68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1CC-D052-49C0-9E4D-FCAE07D6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5A0-6555-45F2-85EF-B89F095E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71F-F32A-43CF-B29D-019B9243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D98-05B9-4B77-A2F0-05996C58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1C0-A40E-4C2C-942A-5080474D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5DF-847D-430B-BFB5-76165898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EE2-F263-4E75-A162-A641C757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273-733E-4F31-81E9-77733AB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887-49CB-4A8E-9E5C-BD8682E1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B06-038C-46B0-B280-B2E196E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F0B-D064-4D96-A1B8-D85AB109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E88-9581-4CB5-9821-F5620CE4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BFEE0-9440-48C8-A2E3-E637123D29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