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95236"/>
        <c:axId val="71881853"/>
      </c:barChart>
      <c:catAx>
        <c:axId val="84095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81853"/>
        <c:crosses val="autoZero"/>
        <c:auto val="1"/>
        <c:lblAlgn val="ctr"/>
        <c:lblOffset val="100"/>
        <c:noMultiLvlLbl val="0"/>
      </c:catAx>
      <c:valAx>
        <c:axId val="71881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95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D3C-F2BC-478E-8F0F-98D17A14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BCE-32AC-4F2B-9540-F78730FA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512-A705-4EB3-96C3-F43B17D0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2F1-D512-4381-B9D8-CC8B5EFC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D4C-8FE3-4A79-B8CF-A23285F7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EB1-AC16-4DFD-9787-AFBB17CA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A1C-5221-4CD3-96AD-BBEEAE09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E44-8E2D-4E47-8EC4-4DA74705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761-2912-4D04-BBE3-2C3E4CE4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0C8-AE87-4133-BA8C-268F26F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336-4853-4823-B972-2316421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EC5-E380-47BD-A9AC-FABE63D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BA806-C361-4823-9AF6-3FDE0BAD3A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