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10854"/>
        <c:axId val="97799629"/>
      </c:barChart>
      <c:catAx>
        <c:axId val="65410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99629"/>
        <c:crosses val="autoZero"/>
        <c:auto val="1"/>
        <c:lblAlgn val="ctr"/>
        <c:lblOffset val="100"/>
        <c:noMultiLvlLbl val="0"/>
      </c:catAx>
      <c:valAx>
        <c:axId val="97799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10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D18-053A-48E5-B318-C07D0D17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A1A-5ADD-44D1-9131-AD5E44D3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3FC-D5A5-4053-907F-FFD2EAFF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243-768F-4692-930D-4A8963D2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75A-0E71-4EAC-B01A-4D4308AC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3B9-C03A-4A5A-84E1-4C481069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141-D59D-40D5-AA16-413100A9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C57-AD74-480B-B4D2-E6DD50E0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856-C184-469D-996D-59BC427E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3E2-E948-48B5-B0EA-C6DD1A7D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CD6-E338-4420-BF9D-99AFF2EC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AFAC-B122-4B3B-A093-25E0AD80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B0ECF-9BBD-45C7-B45E-4649A70A2D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