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742953"/>
        <c:axId val="13292012"/>
      </c:barChart>
      <c:catAx>
        <c:axId val="937429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92012"/>
        <c:crosses val="autoZero"/>
        <c:auto val="1"/>
        <c:lblAlgn val="ctr"/>
        <c:lblOffset val="100"/>
        <c:noMultiLvlLbl val="0"/>
      </c:catAx>
      <c:valAx>
        <c:axId val="13292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7429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1BF7-9BD3-4EC2-872A-23931A4E7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783F-38F2-4460-AA62-F116190C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953F-8712-4DC7-B5E9-9396D2CA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C7A-5686-4A64-95B5-7784B719E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06D0-626A-4A6D-A807-059A7056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0F5-9BF3-4623-A771-198216E5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28A-F943-4C6C-8EF4-99B8A7CC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2C13-2AF9-4B3B-9AA4-54C577D3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9582-252C-4562-9074-522F12E0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8F62-F781-47DF-AF7F-9D4B120B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6A31-5B8F-4B3E-8F21-A1FE55C4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0EB1-01C8-4D0D-94BC-2294B2BF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C401-ECAA-4792-9A3D-A117F2E36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