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7194"/>
        <c:axId val="98629965"/>
      </c:barChart>
      <c:catAx>
        <c:axId val="6827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9965"/>
        <c:crosses val="autoZero"/>
        <c:auto val="1"/>
        <c:lblAlgn val="ctr"/>
        <c:lblOffset val="100"/>
        <c:noMultiLvlLbl val="0"/>
      </c:catAx>
      <c:valAx>
        <c:axId val="98629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3EB-E0FC-4D36-B8D2-623BB973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F84-753B-4AC6-84EB-25BFF00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647-A2E0-48B6-9116-36F8ABB3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AF4-5BA2-4ED8-9702-87B24C2C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41F-9925-4A87-BFDC-BC39BA6E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B61-3775-4D4C-B549-6CCC1770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28D-8492-43D2-ABBF-960BCF1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39E-406E-40EE-8784-F669173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4E1-43A8-48AA-BB94-4725D98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4A3-E1C8-44FA-9284-EE4BD28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573-8636-4EFC-B03D-C4AA4B9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B10-4C6E-47EE-A59B-1961768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29099-2CF7-4C60-AC2B-64359CED7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