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90161"/>
        <c:axId val="45726481"/>
      </c:barChart>
      <c:catAx>
        <c:axId val="60590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26481"/>
        <c:crosses val="autoZero"/>
        <c:auto val="1"/>
        <c:lblAlgn val="ctr"/>
        <c:lblOffset val="100"/>
        <c:noMultiLvlLbl val="0"/>
      </c:catAx>
      <c:valAx>
        <c:axId val="45726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90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108-BCA9-41B1-BD42-A132DA4E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90F-97C7-4810-B892-54F7C4E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C84-6546-42DA-BB8B-7F9F7FA2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233-95E5-45FC-885E-3AD517FD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A55-5853-40D9-A577-6C955FF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3CD-E848-4244-92FD-9198B59C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FE8-2C85-45AA-8965-62A2B69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426-5667-4D60-8D72-809805A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15C-6609-4176-99AC-1321653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931-4636-4011-9D3F-37282468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BA1-7F63-47B6-B5E6-EE1A96E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62E-F26B-4973-9317-92807DF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76B5-0427-4236-A56F-30307BD3A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