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47688"/>
        <c:axId val="47833795"/>
      </c:barChart>
      <c:catAx>
        <c:axId val="29247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833795"/>
        <c:crosses val="autoZero"/>
        <c:auto val="1"/>
        <c:lblAlgn val="ctr"/>
        <c:lblOffset val="100"/>
        <c:noMultiLvlLbl val="0"/>
      </c:catAx>
      <c:valAx>
        <c:axId val="47833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47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7DB-9973-43C8-9B4C-2C385932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59E-AFAF-4AAB-97E3-A02123B9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7BBF-709B-4049-B508-C9233E71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58E-517E-42AA-A7C1-659A1259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3FE-7F35-4BE5-870D-F21F53DA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B93-2CD4-485F-8FF2-4399FF45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077-3A80-4988-A4C3-C8D0E12C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9DD-C140-42AE-B868-D0664766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039-BC54-4FEA-9BF6-2DE1184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A89-8039-490F-B859-4CB0E7F9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C48-624A-4753-905A-7D3DF9DA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08D-88C2-4B1C-B97A-A28B4F7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B956C-BE94-487B-9610-135C0B1707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