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65629"/>
        <c:axId val="24518385"/>
      </c:barChart>
      <c:catAx>
        <c:axId val="43165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8385"/>
        <c:crosses val="autoZero"/>
        <c:auto val="1"/>
        <c:lblAlgn val="ctr"/>
        <c:lblOffset val="100"/>
        <c:noMultiLvlLbl val="0"/>
      </c:catAx>
      <c:valAx>
        <c:axId val="2451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5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335-F9E5-4D7C-8CA5-6F5843AF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9C0-D9CD-4A2D-8494-DA91311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3E0-60B9-402E-9ED3-ECA4D1B9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561-ACE7-464A-9FDE-07172BD4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58F-A7C4-4716-9E6F-00DE555A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802-6FC7-490D-A00B-6D24A87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9E1-F59F-4C63-88F4-43C8D42A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EA2-65C9-42B0-9322-5385277A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75A-D072-4933-B489-27A0BB23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6AE-63C1-4E6B-8622-790F1E1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F14-47D8-45E9-8220-ED73366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463-C602-45ED-A9A9-C9563F5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04F3B-3D08-4785-BCA4-5306DBBF97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