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8123"/>
        <c:axId val="62018731"/>
      </c:barChart>
      <c:catAx>
        <c:axId val="7518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8731"/>
        <c:crosses val="autoZero"/>
        <c:auto val="1"/>
        <c:lblAlgn val="ctr"/>
        <c:lblOffset val="100"/>
        <c:noMultiLvlLbl val="0"/>
      </c:catAx>
      <c:valAx>
        <c:axId val="62018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8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F4A-16DD-450F-B6A3-0E3614AF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6D1-588A-4018-ABD6-948D934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396-AD61-4F93-B002-4BAA26C9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EDC-C421-4506-98F2-DEB781F2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5B2-8FE3-4967-8E61-64791391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2EA-3C19-4023-A806-F5DD734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75F-2478-4B35-8CA9-95FCD1A3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C82-8012-4230-9AB8-21FC426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CCC-A2B2-45CB-A2FB-54E5456E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C2E-0D9C-4F46-BC9E-EB5525D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8E7-DA79-45CC-B9EA-32C1139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01D-9DF7-4ED9-8CC0-A65B58A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23B28-4865-4FD6-9726-80E7CA5FF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